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3A6-7B0D-4C66-8325-C57CF3C9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65F-270B-4E59-BBFA-95352B33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69C-2C56-4A9D-9C5E-E90C95C0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E84-2451-4188-8050-349AF86A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A437-3162-4F5A-94AA-DAF9D889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9516-9947-4683-8B49-F4BE1F5F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29F6-B35B-48FB-A020-3C771F80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DD2A-19DC-4F55-B49C-25327092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1B36-9357-4AD6-957D-473D362D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5752-FCB4-4B5A-9998-D82F8B1E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FC95-97F2-48E9-A0D2-77C38C4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CC4-F98E-4A8B-99FF-48208378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8458-9F2F-4F91-9E77-B00DC4E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EB04-CFD8-43E9-B9BC-4065FEB7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1819-D887-45A6-9CED-1A291021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5375-CF0D-4995-997F-DD279592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D364-527F-442C-B966-3F1C8086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DDA-0A73-405A-9B16-EC880B93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C8D-05CF-4662-AEEB-4C62FDDE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CC2-3A43-4025-98A5-639D8325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A97-84C6-4EEC-9983-3F00B3B0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FC3-FF6D-4D94-97DF-D2390CA8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6FB-4ED4-4622-930F-C911118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FB5-6288-420F-B9E2-B7A3938B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AD31-3598-46F5-A684-30B4C36AB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8244-17AA-42E8-B530-C5EDDDEA1AF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Chapter 8-Polynomial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implif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 #15 on page 42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 3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#17 on page 42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 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# 29 on page 42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6k</a:t>
            </a:r>
            <a:r>
              <a:rPr b="0" lang="en-US" sz="3200" spc="-1" strike="noStrike" u="sng" baseline="30000">
                <a:solidFill>
                  <a:srgbClr val="ffffcc"/>
                </a:solidFill>
                <a:uFillTx/>
                <a:latin typeface="Times New Roman"/>
              </a:rPr>
              <a:t>1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3-Scientific Not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What is Scientific Notation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Scientific Not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a number written as a product of a factor and a power of 1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actor must be greater than or equal to 1 and less than 1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d for numbers that are very large or very sm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press Numbers in 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tandard No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press the number in standard not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45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ower of 8 means to move the decimal 8 places to the right and fill in any empty holes with zero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 245,0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press Numbers in 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tandard No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press the number in standard not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ower of –5 means to move the decimal 5 places to the left and fill in any empty holes with zero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 .0000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press Numbers in 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cientific No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tific Notation is the reverse of Standard No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press the number in scientific not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0,5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t the decimal right after the first num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gives you 3.0500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any places do you go to get the decimal back to where it was in the beginning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….to the righ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 the answer is 3.05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press the number in scientific not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00078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t the decimal after the first number that is not zer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gives you 0007.8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any places do you go to get the decimal back to where it was in the beginning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….to the lef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 the answer is 7.81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Multiplication and Division with Scientific No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5 x 1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-8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(2.9 x 10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ust simply type it in your calculat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the times ten (x10) you will use E. (2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comm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your calculator you should see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5E-8)(2.9E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ss ENTER to get your answ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Assignment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age 837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ction 8.2 and 8.3 Al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8.1-Multiplying Mo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Monomi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a number, a variable, or the product of a number and one or more varia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stan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monomials that are real numb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number by itself, without a variable (Ex: 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4-Polynomial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Poly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polynomi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monomial or a sum of monomia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es of polynomi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inomial:  sum or difference of two monomi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inomial:  sum or difference of three monomi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Degre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egree of a monomi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the sum of the expon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 the degree of 8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4, the degree of 2x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6 (because if you add all the exponents of the variables you get 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Degre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egree of a polynomi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the greatest degree of any term in the polynom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nd the degree of each term, the highest is the degree of the polynom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3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d the degree of each t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degree 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degree of 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 has no deg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reatest is 4, so that’s the degree of the polynom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Arrange Poly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range Polynomials in ascending or descending ord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scend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least to grea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Descend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greatest to le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6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12 + 5x in descend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5x –12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5-Adding and Subtracting Polynomial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adding or subtracting polynomials remember to combine LIKE T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– 4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8) + (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2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– 7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5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ice which terms are alike…combine these terms. (They have been color cod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– 7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-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4x + 2x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-2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 – 5 =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 the answer is… -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- 2x + 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sure to put the powers in descend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Add or Subtract Poly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(5y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3y + 8) + (4y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9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9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3y –1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(3ax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5x – 3a) – (6a – 8a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x + 4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3a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9x – 9a + 8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6-Multiplying a Polynomial by a Monomial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-2x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(3x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7x + 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ice the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–2x</a:t>
            </a:r>
            <a:r>
              <a:rPr b="0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n the outside of the parenthesis……you must distribute th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2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* 3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-6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2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* -7x = 1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2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* 10 = -20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-6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14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20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8.1-Multiplying Mo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MULTIPLY powers that have the SAME BASE, just simply ADD the exponents and leave the base the sa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* 2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2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* x = 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x is the same as 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5 + 1 = 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4(3d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+ 5d) – d(d</a:t>
            </a:r>
            <a:r>
              <a:rPr b="1" i="1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7d + 1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ice you have to distribute the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–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 * 3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12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 * 5d = 20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d * 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-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d * -7d = 7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d * 12 = -12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t it all together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12d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+ 20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+ 7d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– 12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ice the like terms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-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19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8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4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4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4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9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Examp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y(y – 12) + y(y + 2) + 25 = 2y(y + 5) – 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ribute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 * y = 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 * -12 = -12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 * y = 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 * 2 = 2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forget the +2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y * y = 2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y * 5 = 10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forget the -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w you have…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– 12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+ 2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25 = 2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10y –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bine like terms…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10y + 25 = 2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10y – 1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w you have to solve because you have an equals sig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y = 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7-Multiplying Polynomial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Multiplying Two Binomia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x + 3) (x + 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one a number of way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either FOIL or Box Meth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OI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(x + 3) (x + 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Multiply th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rms in ea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x * 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Multiply th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Out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x * 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2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Multiply th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In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3 * x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3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Multiply th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La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3 * 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x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5x + 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2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3"/>
          <p:cNvGraphicFramePr/>
          <p:nvPr/>
        </p:nvGraphicFramePr>
        <p:xfrm>
          <a:off x="1371600" y="1380960"/>
          <a:ext cx="6248520" cy="518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80960"/>
                    <a:ext cx="6248520" cy="51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Oval 12"/>
          <p:cNvSpPr/>
          <p:nvPr/>
        </p:nvSpPr>
        <p:spPr>
          <a:xfrm>
            <a:off x="2590920" y="4267080"/>
            <a:ext cx="152388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4876920" y="2438280"/>
            <a:ext cx="1523880" cy="1447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Box Metho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2666880" y="2286000"/>
                <a:ext cx="129564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2666880" y="4267080"/>
                <a:ext cx="15242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5257800" y="4343400"/>
                <a:ext cx="925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5181480" y="2514600"/>
                <a:ext cx="12193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Comb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685800" y="1523880"/>
          <a:ext cx="48769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48769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38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bine the two that are circl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+ 5x + 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Polynomials</a:t>
            </a:r>
            <a:br>
              <a:rPr sz="4400"/>
            </a:b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(4x + 9) (2x</a:t>
            </a:r>
            <a:r>
              <a:rPr b="1" i="1" lang="en-US" sz="44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 – 5x + 3)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ultiply 4x by        (2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–5x +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x * 2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= 8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x * -5x = -20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x * 3 = 12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ultiply 9 by          (2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–5x +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9 * 2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= 18x</a:t>
            </a:r>
            <a:r>
              <a:rPr b="0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9 * -5x = -45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9 * 3 = 2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315200" cy="2666880"/>
          </a:xfrm>
          <a:prstGeom prst="rect">
            <a:avLst/>
          </a:prstGeom>
          <a:ln w="0">
            <a:noFill/>
          </a:ln>
        </p:spPr>
      </p:pic>
      <p:sp>
        <p:nvSpPr>
          <p:cNvPr id="177" name="Oval 21"/>
          <p:cNvSpPr/>
          <p:nvPr/>
        </p:nvSpPr>
        <p:spPr>
          <a:xfrm rot="19980000">
            <a:off x="3242880" y="3534840"/>
            <a:ext cx="4816440" cy="13417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20"/>
          <p:cNvSpPr/>
          <p:nvPr/>
        </p:nvSpPr>
        <p:spPr>
          <a:xfrm rot="19980000">
            <a:off x="1033200" y="3292200"/>
            <a:ext cx="4816440" cy="1342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…BOX METHO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0" y="2971800"/>
                <a:ext cx="957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0" y="4267080"/>
                <a:ext cx="914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1447920" y="1828800"/>
                <a:ext cx="1047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3733920" y="1981080"/>
                <a:ext cx="1197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6400800" y="1981080"/>
                <a:ext cx="914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1523880" y="2895480"/>
                <a:ext cx="12193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1"/>
              <p:cNvSpPr txBox="1"/>
              <p:nvPr/>
            </p:nvSpPr>
            <p:spPr>
              <a:xfrm>
                <a:off x="3352680" y="2971800"/>
                <a:ext cx="2167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2"/>
              <p:cNvSpPr txBox="1"/>
              <p:nvPr/>
            </p:nvSpPr>
            <p:spPr>
              <a:xfrm>
                <a:off x="6324480" y="3124080"/>
                <a:ext cx="12193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3"/>
              <p:cNvSpPr txBox="1"/>
              <p:nvPr/>
            </p:nvSpPr>
            <p:spPr>
              <a:xfrm>
                <a:off x="1447920" y="4191120"/>
                <a:ext cx="15476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4"/>
              <p:cNvSpPr txBox="1"/>
              <p:nvPr/>
            </p:nvSpPr>
            <p:spPr>
              <a:xfrm>
                <a:off x="3505320" y="4343400"/>
                <a:ext cx="1855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5"/>
              <p:cNvSpPr txBox="1"/>
              <p:nvPr/>
            </p:nvSpPr>
            <p:spPr>
              <a:xfrm>
                <a:off x="6477120" y="4343400"/>
                <a:ext cx="9903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2"/>
          <p:cNvSpPr/>
          <p:nvPr/>
        </p:nvSpPr>
        <p:spPr>
          <a:xfrm>
            <a:off x="1295280" y="54100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Answer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8x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2x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33x + 2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implif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(-7c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 (4cd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= -28c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-591120">
              <a:spcBef>
                <a:spcPts val="11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(5a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 (6a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= 30a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ind the Power of a Pow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find the power of a power, multiply the expon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2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2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implif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(p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= p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[(3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]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= 3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Times New Roman"/>
              </a:rPr>
              <a:t>8.2-Dividing Monomial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Dividing Powers with the Same Ba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DIVIDE powers that have the SAME BASE, SUBTRACT the expon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 u="sng" baseline="30000">
                <a:solidFill>
                  <a:srgbClr val="ffffcc"/>
                </a:solidFill>
                <a:uFillTx/>
                <a:latin typeface="Times New Roman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swer: 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Power of Zero &amp; Negative Expon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time you have a number (except zero) to the power of ZERO, the answer is O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3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time you have a negative exponent, flip it to make is posi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=  5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2:42:55Z</dcterms:created>
  <dc:creator>admin</dc:creator>
  <dc:description/>
  <dc:language>en-US</dc:language>
  <cp:lastModifiedBy>PCS</cp:lastModifiedBy>
  <dcterms:modified xsi:type="dcterms:W3CDTF">2010-03-17T16:00:25Z</dcterms:modified>
  <cp:revision>84</cp:revision>
  <dc:subject/>
  <dc:title>Chapter 8-Polynomials</dc:title>
</cp:coreProperties>
</file>